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8B16B-541B-4404-9BAD-79F71CFFF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70424-0D11-4AB2-A69A-CC0EBABE8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47EAE-E136-424A-A735-800C43511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14F95-5FA4-4E40-899C-5D4FCDDA3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63272-A3DC-4F76-9A8E-E2FB2AB39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16084-C1DE-4CAC-8196-002771A19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12A3F-31E2-45A4-96B1-790167299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91253-3C36-4397-8308-4AC9FA3C3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7203C-804D-4E8C-B674-261D5E328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5C947-DC2D-4BCA-9433-91E0B2908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64EB2-F935-46D5-BF09-0734D9CA3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49B8F-A553-4AF9-9BE6-9FDD83FDF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CF2DA-DDBE-45F2-8750-D31C00B88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216F8-DF93-4899-9A58-84754B56D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9FDB7-153D-4E59-B7ED-029B4209D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EDAB4-F2BA-4FC1-A54E-5840A6F9C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56897-B74A-49C6-A607-D302927C7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B6BAB23-BC14-4797-962A-5673F11C92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803FE7A-60B0-429B-A266-451F3316E5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E4F9B6-A121-4D0E-A55A-42CAFB5A7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08FD9E-25A6-4C06-BBB3-B0058C7EAC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5121AF7-FA05-40C8-B6FF-355AB09578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9D3D7-6F0C-49E7-8720-DA59D9988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76A378-BA34-488A-8E8A-F791AE95CD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81CB4F-40ED-467C-8547-AACBA946C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2B16BD-C919-440E-8DFF-E34010718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70808B-114B-46A2-AA67-413A18031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3F1E13E-4710-4089-A627-E67A7D42E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2C50361-1816-409C-B639-0CEEB762F7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CAA3A7C-D637-499B-B61F-9ECB227F7C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3000ED-1CA7-4B48-B6BF-1B1C1D3181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EE7D87-FAB8-4628-8B30-0ECAF35D9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56C208-A69E-436D-B459-63201DCE7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6A3E9-976C-44BB-82F7-3B559966A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27A40B-F366-49FC-B06C-A64CD0375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738715-6ED2-4995-9108-7C46BD1672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2C15C-0726-4B48-91E0-5B1E43A28F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CB619-36DF-4A30-9C63-8BCAA419B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12147-57A2-4BB8-99F9-1FB61BAD7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C4C3F-9D1E-4BF0-BECE-3421B318C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FD5BA8-09AF-4BE3-9D9E-E9425AC93A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F9FB96-64D3-4877-8744-8F0C6332DE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7649EF-99C5-4309-85DD-242EFB9AFA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358BC60-E9FF-490F-BD33-95F3AEAE91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F0726-0263-4C03-A098-40A67C955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FED418-B9B4-4940-8E07-71CC71F1D6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804DF64-D5EB-4F2D-A04A-887ADA6C6E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5CE54F-6E7B-47E2-A053-44F9904034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54515D-3196-4FA8-9320-304CB0D1F2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DA0CE6-7CAB-48DD-87B7-FDC0464299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7AD28F-584F-4E83-85C2-B48B66704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B01048-BAAD-4A71-BCD2-1E707B940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BF5A00-7B49-40DC-9AFA-562720455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3EDEF2-FE72-4D6C-BA30-BA4F08A1CF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1DD34DD-42FE-45C3-BAE2-B91D10175A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A0F67-BC73-46A7-BABD-C04289DE3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F8C5722-6ECE-44C2-8426-8E89128A97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8087D0F-0A16-467F-B84C-D44D6EB4FA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8B75F0E-33FA-46BC-BBF9-1F339F934A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E015E5D-85B6-44C3-88BD-47BD0354B1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4E36012-B3B2-4392-8EDE-F33041EFF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79EE79F-F9D2-4EBB-9389-4E931A9F1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FCDBED0-21A8-45B8-BD35-3AA360086E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0B117B8-00CC-4CEB-A5F6-7993FCCFC1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5F4398B-D1CD-40E6-82FF-CAECB82FA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93BB7E5-F202-4433-AF67-3DBE84861F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97C5A-34C0-4195-A70B-D019D0B13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7C9B289-0558-4BE5-97F2-7319FFD7F1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33A94C7-25BE-4D8D-BFF4-D3C4D0EA94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DA4694F-B9E5-4706-8EFB-21CFE51F55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09FA18C-1777-4CD7-8370-69B004CD01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BA96A7B-3036-4E2E-91B2-31235619EA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E8DF116-6DA1-4229-A535-F32CD2783A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8BDDC79-0A29-433E-AB66-80EE6B143A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B37564E-A00A-4469-8C2C-CB6400E50C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393890F-5758-49F0-963C-1D2BE0C30C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B23174B-88A9-42B4-98BA-710E638DA6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75AE9-31F3-45E8-844C-1B65D9F7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85073AA-0768-43D0-A230-34EE93921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BE173E-19C8-4A8E-9F2F-C2529738F7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0A6886E-6C96-4922-A471-2BC35EBD4F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FE4207D-9012-499B-ADCA-133DFBDDEF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1FE78C4-967D-4D97-A4E6-C86A6F9BEF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DF2D-6A8E-430F-B4AE-27DE7021C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61D8-815F-436C-A0A3-6EA1EBD81B4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B044-EC59-4C1C-A60F-C4BEC6927EB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917E-6E00-4E5C-852C-042CEE230CC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9D9D-6B89-4A0C-8EB1-647A908CECE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1ACE2-4210-4567-A752-6AC2A232C72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BF51-8297-4EC5-899C-66F928EAD50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12EB-6B16-42D2-BA35-629CBBE88D0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75f6d"/>
                </a:solidFill>
                <a:latin typeface="Lucida Console"/>
              </a:rPr>
              <a:t>GOOGLE</a:t>
            </a:r>
            <a:r>
              <a:rPr b="1" lang="en-US" sz="3000" spc="-1" strike="noStrike">
                <a:solidFill>
                  <a:srgbClr val="575f6d"/>
                </a:solidFill>
                <a:latin typeface="Lucida Console"/>
              </a:rPr>
              <a:t> </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Lucida Console"/>
              </a:rPr>
              <a:t>By</a:t>
            </a:r>
            <a:r>
              <a:rPr b="1" lang="en-US" sz="4000" spc="-1" strike="noStrike">
                <a:solidFill>
                  <a:srgbClr val="575f6d"/>
                </a:solidFill>
                <a:latin typeface="Century Schoolbook"/>
              </a:rPr>
              <a:t> Dixie</a:t>
            </a:r>
            <a:endParaRPr b="0" lang="en-US" sz="4000" spc="-1" strike="noStrike">
              <a:solidFill>
                <a:srgbClr val="000000"/>
              </a:solidFill>
              <a:latin typeface="Century Schoolboo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GOOGLE</a:t>
            </a:r>
            <a:r>
              <a:rPr b="0" lang="en-US" sz="1800" spc="-1" strike="noStrike">
                <a:solidFill>
                  <a:srgbClr val="000000"/>
                </a:solidFill>
                <a:latin typeface="Lucida Console"/>
              </a:rPr>
              <a:t> PRODUCT SEARCH HELPS SHOPPERS FIND AND BUY PRODUCTS ACROSS THE WEB. AS A SELLER, YOU CAN SUBMIT YOUR PRODUCTS TO GOOGLE PRODUCT SEARCH, ALLOWING SHOPPERS TO QUICKLY AND EASILY FIND YOUR SITE</a:t>
            </a:r>
            <a:endParaRPr b="0" lang="en-US" sz="1800" spc="-1" strike="noStrike">
              <a:solidFill>
                <a:srgbClr val="575f6d"/>
              </a:solidFill>
              <a:latin typeface="Century Schoolbook"/>
            </a:endParaRPr>
          </a:p>
        </p:txBody>
      </p:sp>
      <p:pic>
        <p:nvPicPr>
          <p:cNvPr id="371" name="Picture 2" descr=""/>
          <p:cNvPicPr/>
          <p:nvPr/>
        </p:nvPicPr>
        <p:blipFill>
          <a:blip r:embed="rId1"/>
          <a:srcRect l="0" t="0" r="0" b="4252"/>
          <a:stretch/>
        </p:blipFill>
        <p:spPr>
          <a:xfrm>
            <a:off x="457200" y="1703520"/>
            <a:ext cx="7467480" cy="446868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160" y="380520"/>
            <a:ext cx="7391160" cy="1676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GOOGLE</a:t>
            </a:r>
            <a:r>
              <a:rPr b="0" lang="en-US" sz="1600" spc="-1" strike="noStrike">
                <a:solidFill>
                  <a:srgbClr val="000000"/>
                </a:solidFill>
                <a:latin typeface="Lucida Console"/>
              </a:rPr>
              <a:t> SCHOLAR PROVIDES A SIMPLE WAY TO BROADLY SEARCH FOR SCHOLARLY LITERATURE. FROM ONE PLACE, YOU CAN SEARCH ACROSS MANY DISCIPLINES AND SOURCES: ARTICLES, THESES, BOOKS, ABSTRACTS AND COURT OPINIONS, FROM ACADEMIC PUBLISHERS, PROFESSIONAL SOCIETIES, ONLINE REPOSITORIES, UNIVERSITIES AND OTHER WEB SITES</a:t>
            </a:r>
            <a:br>
              <a:rPr sz="1600"/>
            </a:br>
            <a:endParaRPr b="0" lang="en-US" sz="1600" spc="-1" strike="noStrike">
              <a:solidFill>
                <a:srgbClr val="575f6d"/>
              </a:solidFill>
              <a:latin typeface="Century Schoolbook"/>
            </a:endParaRPr>
          </a:p>
        </p:txBody>
      </p:sp>
      <p:pic>
        <p:nvPicPr>
          <p:cNvPr id="373" name="Picture 2" descr=""/>
          <p:cNvPicPr/>
          <p:nvPr/>
        </p:nvPicPr>
        <p:blipFill>
          <a:blip r:embed="rId1"/>
          <a:srcRect l="0" t="0" r="0" b="3501"/>
          <a:stretch/>
        </p:blipFill>
        <p:spPr>
          <a:xfrm>
            <a:off x="969840" y="2209680"/>
            <a:ext cx="6823080" cy="411480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Lucida Console"/>
              </a:rPr>
              <a:t>GMAIL </a:t>
            </a:r>
            <a:endParaRPr b="0" lang="en-US" sz="3000" spc="-1" strike="noStrike">
              <a:solidFill>
                <a:srgbClr val="575f6d"/>
              </a:solidFill>
              <a:latin typeface="Century Schoolbook"/>
            </a:endParaRPr>
          </a:p>
        </p:txBody>
      </p:sp>
      <p:pic>
        <p:nvPicPr>
          <p:cNvPr id="375" name="Picture 2" descr=""/>
          <p:cNvPicPr/>
          <p:nvPr/>
        </p:nvPicPr>
        <p:blipFill>
          <a:blip r:embed="rId1"/>
          <a:srcRect l="0" t="0" r="0" b="3449"/>
          <a:stretch/>
        </p:blipFill>
        <p:spPr>
          <a:xfrm rot="21232200">
            <a:off x="236520" y="1714680"/>
            <a:ext cx="3809880" cy="4647960"/>
          </a:xfrm>
          <a:prstGeom prst="rect">
            <a:avLst/>
          </a:prstGeom>
          <a:ln w="0">
            <a:noFill/>
          </a:ln>
        </p:spPr>
      </p:pic>
      <p:pic>
        <p:nvPicPr>
          <p:cNvPr id="376" name="Picture 3" descr=""/>
          <p:cNvPicPr/>
          <p:nvPr/>
        </p:nvPicPr>
        <p:blipFill>
          <a:blip r:embed="rId2"/>
          <a:srcRect l="0" t="0" r="0" b="4838"/>
          <a:stretch/>
        </p:blipFill>
        <p:spPr>
          <a:xfrm rot="828600">
            <a:off x="4827240" y="1285920"/>
            <a:ext cx="3657600" cy="44956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Console"/>
              </a:rPr>
              <a:t>AND MORE…</a:t>
            </a:r>
            <a:endParaRPr b="0" lang="en-US" sz="3000" spc="-1" strike="noStrike">
              <a:solidFill>
                <a:srgbClr val="575f6d"/>
              </a:solidFill>
              <a:latin typeface="Century Schoolbook"/>
            </a:endParaRPr>
          </a:p>
        </p:txBody>
      </p:sp>
      <p:pic>
        <p:nvPicPr>
          <p:cNvPr id="378" name="Picture 3" descr=""/>
          <p:cNvPicPr/>
          <p:nvPr/>
        </p:nvPicPr>
        <p:blipFill>
          <a:blip r:embed="rId1"/>
          <a:stretch/>
        </p:blipFill>
        <p:spPr>
          <a:xfrm>
            <a:off x="685800" y="1905120"/>
            <a:ext cx="4419720" cy="2762280"/>
          </a:xfrm>
          <a:prstGeom prst="rect">
            <a:avLst/>
          </a:prstGeom>
          <a:ln w="0">
            <a:noFill/>
          </a:ln>
        </p:spPr>
      </p:pic>
      <p:sp>
        <p:nvSpPr>
          <p:cNvPr id="379" name="TextBox 6"/>
          <p:cNvSpPr/>
          <p:nvPr/>
        </p:nvSpPr>
        <p:spPr>
          <a:xfrm>
            <a:off x="5263560" y="22860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s </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Lucida Console"/>
              </a:rPr>
              <a:t>MORE…</a:t>
            </a:r>
            <a:endParaRPr b="0" lang="en-US" sz="4000" spc="-1" strike="noStrike">
              <a:solidFill>
                <a:srgbClr val="575f6d"/>
              </a:solidFill>
              <a:latin typeface="Century Schoolbook"/>
            </a:endParaRPr>
          </a:p>
        </p:txBody>
      </p:sp>
      <p:pic>
        <p:nvPicPr>
          <p:cNvPr id="381" name="Picture 2" descr=""/>
          <p:cNvPicPr/>
          <p:nvPr/>
        </p:nvPicPr>
        <p:blipFill>
          <a:blip r:embed="rId1"/>
          <a:srcRect l="-1559" t="0" r="0" b="4167"/>
          <a:stretch/>
        </p:blipFill>
        <p:spPr>
          <a:xfrm>
            <a:off x="3182760" y="1968480"/>
            <a:ext cx="4953240" cy="3505320"/>
          </a:xfrm>
          <a:prstGeom prst="rect">
            <a:avLst/>
          </a:prstGeom>
          <a:ln w="0">
            <a:noFill/>
          </a:ln>
        </p:spPr>
      </p:pic>
      <p:sp>
        <p:nvSpPr>
          <p:cNvPr id="382" name="TextBox 4"/>
          <p:cNvSpPr/>
          <p:nvPr/>
        </p:nvSpPr>
        <p:spPr>
          <a:xfrm>
            <a:off x="457200" y="266688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e</a:t>
            </a:r>
            <a:endParaRPr b="0" lang="en-US" sz="2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Lucida Console"/>
              </a:rPr>
              <a:t>MORE..</a:t>
            </a:r>
            <a:endParaRPr b="0" lang="en-US" sz="3200" spc="-1" strike="noStrike">
              <a:solidFill>
                <a:srgbClr val="575f6d"/>
              </a:solidFill>
              <a:latin typeface="Century Schoolbook"/>
            </a:endParaRPr>
          </a:p>
        </p:txBody>
      </p:sp>
      <p:pic>
        <p:nvPicPr>
          <p:cNvPr id="384" name="Picture 3" descr=""/>
          <p:cNvPicPr/>
          <p:nvPr/>
        </p:nvPicPr>
        <p:blipFill>
          <a:blip r:embed="rId1"/>
          <a:srcRect l="0" t="0" r="0" b="4252"/>
          <a:stretch/>
        </p:blipFill>
        <p:spPr>
          <a:xfrm>
            <a:off x="457200" y="1703520"/>
            <a:ext cx="5562720" cy="4468680"/>
          </a:xfrm>
          <a:prstGeom prst="rect">
            <a:avLst/>
          </a:prstGeom>
          <a:ln w="0">
            <a:noFill/>
          </a:ln>
        </p:spPr>
      </p:pic>
      <p:sp>
        <p:nvSpPr>
          <p:cNvPr id="385" name="TextBox 6"/>
          <p:cNvSpPr/>
          <p:nvPr/>
        </p:nvSpPr>
        <p:spPr>
          <a:xfrm>
            <a:off x="6319800" y="2786040"/>
            <a:ext cx="210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a:t>
            </a:r>
            <a:endParaRPr b="0" lang="en-US" sz="24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Lucida Console"/>
              </a:rPr>
              <a:t>MORE..</a:t>
            </a:r>
            <a:endParaRPr b="0" lang="en-US" sz="3000" spc="-1" strike="noStrike">
              <a:solidFill>
                <a:srgbClr val="575f6d"/>
              </a:solidFill>
              <a:latin typeface="Century Schoolbook"/>
            </a:endParaRPr>
          </a:p>
        </p:txBody>
      </p:sp>
      <p:pic>
        <p:nvPicPr>
          <p:cNvPr id="387" name="Picture 2" descr=""/>
          <p:cNvPicPr/>
          <p:nvPr/>
        </p:nvPicPr>
        <p:blipFill>
          <a:blip r:embed="rId1"/>
          <a:srcRect l="0" t="0" r="0" b="3255"/>
          <a:stretch/>
        </p:blipFill>
        <p:spPr>
          <a:xfrm>
            <a:off x="228600" y="1752480"/>
            <a:ext cx="6172200" cy="3962520"/>
          </a:xfrm>
          <a:prstGeom prst="rect">
            <a:avLst/>
          </a:prstGeom>
          <a:ln w="0">
            <a:noFill/>
          </a:ln>
        </p:spPr>
      </p:pic>
      <p:sp>
        <p:nvSpPr>
          <p:cNvPr id="388" name="TextBox 4"/>
          <p:cNvSpPr/>
          <p:nvPr/>
        </p:nvSpPr>
        <p:spPr>
          <a:xfrm>
            <a:off x="6629400" y="335268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S </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Lucida Console"/>
              </a:rPr>
              <a:t>EVEN MORE…</a:t>
            </a:r>
            <a:endParaRPr b="0" lang="en-US" sz="3000" spc="-1" strike="noStrike">
              <a:solidFill>
                <a:srgbClr val="575f6d"/>
              </a:solidFill>
              <a:latin typeface="Century Schoolbook"/>
            </a:endParaRPr>
          </a:p>
        </p:txBody>
      </p:sp>
      <p:pic>
        <p:nvPicPr>
          <p:cNvPr id="390" name="Picture 3" descr=""/>
          <p:cNvPicPr/>
          <p:nvPr/>
        </p:nvPicPr>
        <p:blipFill>
          <a:blip r:embed="rId1"/>
          <a:srcRect l="0" t="0" r="0" b="4252"/>
          <a:stretch/>
        </p:blipFill>
        <p:spPr>
          <a:xfrm>
            <a:off x="457200" y="1703520"/>
            <a:ext cx="7467480" cy="44686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Lucida Console"/>
              </a:rPr>
              <a:t>A LITTLE HISTORY OF GOOGLE…</a:t>
            </a:r>
            <a:endParaRPr b="0" lang="en-US" sz="3000" spc="-1" strike="noStrike">
              <a:solidFill>
                <a:srgbClr val="575f6d"/>
              </a:solidFill>
              <a:latin typeface="Century Schoolbook"/>
            </a:endParaRPr>
          </a:p>
        </p:txBody>
      </p:sp>
      <p:sp>
        <p:nvSpPr>
          <p:cNvPr id="354" name=""/>
          <p:cNvSpPr txBox="1"/>
          <p:nvPr/>
        </p:nvSpPr>
        <p:spPr>
          <a:xfrm>
            <a:off x="0" y="1599840"/>
            <a:ext cx="4038480" cy="52578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The very popular search engine called Google was invented by Larry Page and Sergey Brin in September, 1998.</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The search engine was called Backrub in 1996.  In 1997 they decided to change the name to Google. </a:t>
            </a:r>
            <a:endParaRPr b="0" lang="en-US" sz="2400" spc="-1" strike="noStrike">
              <a:solidFill>
                <a:srgbClr val="000000"/>
              </a:solidFill>
              <a:latin typeface="Century Schoolbook"/>
            </a:endParaRPr>
          </a:p>
        </p:txBody>
      </p:sp>
      <p:pic>
        <p:nvPicPr>
          <p:cNvPr id="355" name="Picture 4" descr="C:\Documents and Settings\user\My Documents\My Pictures\e75fc674-c746-4b75-9fec-cc36c5a866c4.jpg"/>
          <p:cNvPicPr/>
          <p:nvPr/>
        </p:nvPicPr>
        <p:blipFill>
          <a:blip r:embed="rId1"/>
          <a:stretch/>
        </p:blipFill>
        <p:spPr>
          <a:xfrm>
            <a:off x="3981600" y="1768320"/>
            <a:ext cx="5022720" cy="39625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5f6d"/>
                </a:solidFill>
                <a:latin typeface="Lucida Console"/>
              </a:rPr>
              <a:t>WHAT IS GOOGLE?</a:t>
            </a:r>
            <a:endParaRPr b="0" lang="en-US" sz="4800" spc="-1" strike="noStrike">
              <a:solidFill>
                <a:srgbClr val="575f6d"/>
              </a:solidFill>
              <a:latin typeface="Century Schoolbook"/>
            </a:endParaRPr>
          </a:p>
        </p:txBody>
      </p:sp>
      <p:sp>
        <p:nvSpPr>
          <p:cNvPr id="357"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Google is a Web Engin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Google domains, you can find information in many different languages (and translate between them), check stock quotes and sports scores, find news headlines and look up the address of your local post office or grocery store. You can also find images, videos, maps, patents and much more. With universal search technology, you can often find all of these things combined in one query.</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Console"/>
              </a:rPr>
              <a:t>WHAT IS GOOGLE?</a:t>
            </a:r>
            <a:endParaRPr b="0" lang="en-US" sz="4000" spc="-1" strike="noStrike">
              <a:solidFill>
                <a:srgbClr val="575f6d"/>
              </a:solidFill>
              <a:latin typeface="Century Schoolbook"/>
            </a:endParaRPr>
          </a:p>
        </p:txBody>
      </p:sp>
      <p:sp>
        <p:nvSpPr>
          <p:cNvPr id="359" name=""/>
          <p:cNvSpPr txBox="1"/>
          <p:nvPr/>
        </p:nvSpPr>
        <p:spPr>
          <a:xfrm>
            <a:off x="304560" y="152388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Google is a web search engine that lets you find other sites on the web based on keyword search</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Web</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Imagines</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Videos</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Maps </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News</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Shopping </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Gmail</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More</a:t>
            </a:r>
            <a:r>
              <a:rPr b="0" lang="en-US" sz="2400" spc="-1" strike="noStrike">
                <a:solidFill>
                  <a:srgbClr val="000000"/>
                </a:solidFill>
                <a:latin typeface="Lucida Console"/>
              </a:rPr>
              <a:t>	</a:t>
            </a:r>
            <a:r>
              <a:rPr b="0" lang="en-US" sz="2400" spc="-1" strike="noStrike">
                <a:solidFill>
                  <a:srgbClr val="000000"/>
                </a:solidFill>
                <a:latin typeface="Lucida Console"/>
              </a:rPr>
              <a:t>	</a:t>
            </a:r>
            <a:r>
              <a:rPr b="0" lang="en-US" sz="2400" spc="-1" strike="noStrike">
                <a:solidFill>
                  <a:srgbClr val="000000"/>
                </a:solidFill>
                <a:latin typeface="Lucida Console"/>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Lucida Console"/>
              </a:rPr>
              <a:t>GOOGLE IS A WEB SEARCH ENGINE THAT LETS YOU FIND OTHER SITES ON THE WEB BASED ON KEYWORD SEARCH.</a:t>
            </a:r>
            <a:endParaRPr b="0" lang="en-US" sz="2700" spc="-1" strike="noStrike">
              <a:solidFill>
                <a:srgbClr val="575f6d"/>
              </a:solidFill>
              <a:latin typeface="Century Schoolbook"/>
            </a:endParaRPr>
          </a:p>
        </p:txBody>
      </p:sp>
      <p:pic>
        <p:nvPicPr>
          <p:cNvPr id="361" name="Picture 4" descr=""/>
          <p:cNvPicPr/>
          <p:nvPr/>
        </p:nvPicPr>
        <p:blipFill>
          <a:blip r:embed="rId1"/>
          <a:srcRect l="0" t="0" r="0" b="6666"/>
          <a:stretch/>
        </p:blipFill>
        <p:spPr>
          <a:xfrm>
            <a:off x="457200" y="1859040"/>
            <a:ext cx="7467480" cy="43560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160" y="380880"/>
            <a:ext cx="7467480" cy="152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r>
              <a:rPr b="0" lang="en-US" sz="2000" spc="-1" strike="noStrike">
                <a:solidFill>
                  <a:srgbClr val="000000"/>
                </a:solidFill>
                <a:latin typeface="Lucida Console"/>
              </a:rPr>
              <a:t>GOOGLE IMAGES IS A SEARCH SERVICE CREATED BY GOOGLE THAT </a:t>
            </a:r>
            <a:br>
              <a:rPr sz="2000"/>
            </a:br>
            <a:r>
              <a:rPr b="0" lang="en-US" sz="2000" spc="-1" strike="noStrike">
                <a:solidFill>
                  <a:srgbClr val="000000"/>
                </a:solidFill>
                <a:latin typeface="Lucida Console"/>
              </a:rPr>
              <a:t>ALLOWS USERS TO SEARCH THE WEB FOR IMAGE CONTEST.  THE KEYWORDS FOR THE IMAGES SEARCH ARE BASED ON THE FILENAME OF THE IMAGES </a:t>
            </a:r>
            <a:br>
              <a:rPr sz="1800"/>
            </a:br>
            <a:endParaRPr b="0" lang="en-US" sz="2000" spc="-1" strike="noStrike">
              <a:solidFill>
                <a:srgbClr val="575f6d"/>
              </a:solidFill>
              <a:latin typeface="Century Schoolbook"/>
            </a:endParaRPr>
          </a:p>
        </p:txBody>
      </p:sp>
      <p:pic>
        <p:nvPicPr>
          <p:cNvPr id="363" name="Picture 2" descr=""/>
          <p:cNvPicPr/>
          <p:nvPr/>
        </p:nvPicPr>
        <p:blipFill>
          <a:blip r:embed="rId1"/>
          <a:srcRect l="0" t="0" r="0" b="3671"/>
          <a:stretch/>
        </p:blipFill>
        <p:spPr>
          <a:xfrm>
            <a:off x="304920" y="1752480"/>
            <a:ext cx="7696080" cy="4800600"/>
          </a:xfrm>
          <a:prstGeom prst="rect">
            <a:avLst/>
          </a:prstGeom>
          <a:ln w="0">
            <a:noFill/>
          </a:ln>
          <a:effectLst>
            <a:outerShdw dist="139498" dir="2700000" blurRad="0" rotWithShape="0">
              <a:srgbClr val="333333">
                <a:alpha val="65000"/>
              </a:srgbClr>
            </a:outerShdw>
          </a:effectLst>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400" spc="-1" strike="noStrike">
                <a:solidFill>
                  <a:srgbClr val="575f6d"/>
                </a:solidFill>
                <a:latin typeface="Lucida Console"/>
              </a:rPr>
              <a:t>GOOGLE VIDEO IS A SERVICE THAT ALLOWS YOU TO SEARCH FOR, UP LOAD, AND VIEW VIDEOS.</a:t>
            </a:r>
            <a:endParaRPr b="0" lang="en-US" sz="2400" spc="-1" strike="noStrike">
              <a:solidFill>
                <a:srgbClr val="575f6d"/>
              </a:solidFill>
              <a:latin typeface="Century Schoolbook"/>
            </a:endParaRPr>
          </a:p>
        </p:txBody>
      </p:sp>
      <p:pic>
        <p:nvPicPr>
          <p:cNvPr id="365" name="Picture 2" descr=""/>
          <p:cNvPicPr/>
          <p:nvPr/>
        </p:nvPicPr>
        <p:blipFill>
          <a:blip r:embed="rId1"/>
          <a:srcRect l="0" t="18534" r="0" b="4252"/>
          <a:stretch/>
        </p:blipFill>
        <p:spPr>
          <a:xfrm>
            <a:off x="152280" y="1752480"/>
            <a:ext cx="8560080" cy="51055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575f6d"/>
                </a:solidFill>
                <a:latin typeface="Lucida Console"/>
              </a:rPr>
              <a:t>GOOGLE MAP, YOU CAN FIND LOCAL BUSINESS, VIEW MAPS AND GET DRIVEN DIRECTION.</a:t>
            </a:r>
            <a:endParaRPr b="0" lang="en-US" sz="2700" spc="-1" strike="noStrike">
              <a:solidFill>
                <a:srgbClr val="575f6d"/>
              </a:solidFill>
              <a:latin typeface="Century Schoolbook"/>
            </a:endParaRPr>
          </a:p>
        </p:txBody>
      </p:sp>
      <p:pic>
        <p:nvPicPr>
          <p:cNvPr id="367" name="Picture 3" descr=""/>
          <p:cNvPicPr/>
          <p:nvPr/>
        </p:nvPicPr>
        <p:blipFill>
          <a:blip r:embed="rId1"/>
          <a:srcRect l="0" t="0" r="0" b="4252"/>
          <a:stretch/>
        </p:blipFill>
        <p:spPr>
          <a:xfrm>
            <a:off x="457200" y="1703520"/>
            <a:ext cx="7696080" cy="51544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228600"/>
            <a:ext cx="76197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800" spc="-1" strike="noStrike">
                <a:solidFill>
                  <a:srgbClr val="000000"/>
                </a:solidFill>
                <a:latin typeface="Lucida Console"/>
              </a:rPr>
              <a:t>GOOGLE NEWS IS A COMPUTER-GENERATED NEWS SITE THAT AGGREGATE HEADLINES FROM NEWS SOURCES  AND DISPLAYED THEM TO EACH  READER’S PERSONALIZED INTERESTS TOP STORIES ARE LISTED TOWARDS THE TOP OF THE PAGES, ON THE LEFT SIDE OF THE PAGE IS NEWS CATEGORIES, SUCH AS WORLD, US, BUSINESS, ENTERTAINMENT AND MORE…  </a:t>
            </a:r>
            <a:endParaRPr b="0" lang="en-US" sz="1800" spc="-1" strike="noStrike">
              <a:solidFill>
                <a:srgbClr val="575f6d"/>
              </a:solidFill>
              <a:latin typeface="Century Schoolbook"/>
            </a:endParaRPr>
          </a:p>
        </p:txBody>
      </p:sp>
      <p:pic>
        <p:nvPicPr>
          <p:cNvPr id="369" name="Picture 2" descr=""/>
          <p:cNvPicPr/>
          <p:nvPr/>
        </p:nvPicPr>
        <p:blipFill>
          <a:blip r:embed="rId1"/>
          <a:srcRect l="0" t="0" r="0" b="4252"/>
          <a:stretch/>
        </p:blipFill>
        <p:spPr>
          <a:xfrm>
            <a:off x="457200" y="1828800"/>
            <a:ext cx="7467480" cy="43434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03:25:02Z</dcterms:created>
  <dc:creator>user</dc:creator>
  <dc:description/>
  <dc:language>en-US</dc:language>
  <cp:lastModifiedBy>user</cp:lastModifiedBy>
  <dcterms:modified xsi:type="dcterms:W3CDTF">2010-11-13T03:48:37Z</dcterms:modified>
  <cp:revision>48</cp:revision>
  <dc:subject/>
  <dc:title>Google </dc:title>
</cp:coreProperties>
</file>